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C1AD-5374-47FC-A7B0-5C94EF63F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61AC-B07A-4CA4-A9FE-20F747E8F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ADFA8-AC1A-4410-8C5D-48A80F5E8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8D269-F3ED-49A2-B7F1-E004737D1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026E-7FEE-4BEF-B7D6-816E7C28E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64DC-C5B5-4254-9979-BBAC3EA9A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284C-903C-4104-8E55-502EB13E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3A405-7730-4661-A7D2-6225E7AD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542ED-BA28-453B-AAB9-293E4781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650E-B4BC-413F-A3E1-36DD2E41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1C55-8B40-4887-BBCC-1C2453C3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5718-B1CA-40D7-8CC9-10485E9CB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30AB-4562-4C45-ADBC-DED3BBA32D45}"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4Z</dcterms:modified>
  <cp:revision>38</cp:revision>
  <dc:subject/>
  <dc:title>SALARIUL</dc:title>
</cp:coreProperties>
</file>